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8E8-3766-4B52-847C-5538BBBF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D63-82D4-4F15-B1D1-C04A6717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621-973C-4519-8625-4F71AE09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D9C-5729-4C8A-91AB-8D4569D2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B77-EBA2-4239-95F5-64559827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B52-4FBA-427F-AE00-051B80C7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124-4095-4EEE-9CB1-F9FA4DD7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1B4-D367-4324-A004-D1F25FAF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771-50BD-4A64-BA58-3142A291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62B-2D05-4806-8833-871FAB63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BCE-DAFC-469A-9106-D906DB6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7B9-2365-43EA-97D4-5DEA0C8E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37B9-E485-42DB-A1BC-6F105360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a log cab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shot by John 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rried Mary Tod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in Washington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d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nted to end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lected 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ur 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51640" y="4708440"/>
            <a:ext cx="1758960" cy="181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07200" y="228600"/>
            <a:ext cx="1036800" cy="141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50280" y="2668680"/>
            <a:ext cx="18223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ought in the Revolutionary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17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ou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ed on December 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17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0:11:10Z</dcterms:created>
  <dc:creator>smuser</dc:creator>
  <dc:description/>
  <dc:language>en-US</dc:language>
  <cp:lastModifiedBy>smuser</cp:lastModifiedBy>
  <dcterms:modified xsi:type="dcterms:W3CDTF">2010-02-04T20:20:54Z</dcterms:modified>
  <cp:revision>8</cp:revision>
  <dc:subject/>
  <dc:title>Slide 1</dc:title>
</cp:coreProperties>
</file>